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060BF-AEA7-4369-8521-718F6C8DC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C8454-D67A-4BD1-B0E2-87BF3D27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EDB6D-4674-4667-A3F5-027822641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07D8A-3D38-4F40-9CF1-923129DE91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B3DAA1-A72E-4322-8C34-6629DE210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DDF72-D0EE-4BF2-B8AD-107C39C2AF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1BE0E-AD44-4377-A47D-D1A6009FA9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F8017C-898D-4962-9114-1CB4427C4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798D10-835E-4B22-AB0F-DE8A2ABA1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8684E4-8DC3-4D4E-961B-B2646BE29D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FEA922-1285-45AC-818D-4209CEE5AA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C5531F-6635-4C1A-9983-B94216DB76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75B2C-5838-4EC9-A8F2-9A7BB67F5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DD2B79-8E6C-4857-9AC1-7B7BE39A0E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5695AD-8C67-4264-AA46-BE54ECCE36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95BC5B-EE25-49D4-9739-5CF33EF22F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81C259-1BDA-4586-B8B1-3A0D176657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5955EE-75C7-4661-88A4-7AA01B7471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128E6F-A9F3-441A-84D2-D8E8B1AA0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D517B3-4872-493C-B9BD-7EE3A7A19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F6C72B-2DA2-430D-978B-8BD114A5EF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2E2C77-3E2C-40D7-942E-221B90B326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76C62F-9B7D-46D9-8DF0-D2227848FD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7F35A-21A6-49EF-9707-6781915AC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A7EC81-39DD-4757-961E-6CD640744C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5A2905-D3A7-4B53-ADA8-AB783218C5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DA62CB-F875-4F56-85E5-1912C49E3B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7A8BE-DBB6-4EE0-950D-C09BB4E30B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89CD5D-BE3F-4015-883F-97A9083514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66BAA5-9F34-494E-8C19-87B68AA948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D655B7-DA9F-40E7-B4DB-2923402604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925CD0-8E02-4A7C-874D-ACD91ABE4A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C0D399-C628-4B28-937C-94D5BFF261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248390-E538-42CA-B968-D76EE494E8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28A6FE5-85B0-4B14-B67D-D2A1FC3F13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F2D481-366A-42EB-9498-D030737821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78D7CE-FB7D-48A8-A943-BD45233B36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9A2AEF-19DE-4005-A03D-03A5A1ECDD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CDAEA3-B650-4099-897F-32972ED74F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C5CA44-2E65-468A-AD44-123D400851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0A77D8-74C7-4752-889F-51D1FDA4A5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64C0B4-A10C-4DA9-9E72-51643CCFB7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E865ED-0359-4ABA-8426-69D6B3B82C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391BB2-59FF-42C6-9410-6D18D701D2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5698AD-1165-4B21-83AC-449878EBC2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DE113DC-000F-4561-B41B-BA938F4036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F1A2C4-B6E1-4B14-9458-FF01EB9A48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E7312A-119B-4614-87D3-648B44CE8E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5334FD-F2D6-48E7-B838-C54D2CB4F5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E1E5F4-F9C5-47A3-A40B-C10C44B68D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0D0623-BBCD-44BE-BE64-86AF26391B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C53A31-8A7F-41A8-B800-A6AA42BC74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5D77CC-A15E-4666-B41C-3FC2FB5246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73A2DA-D756-4590-A021-C41DBB07B0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970B1E-BD61-4C22-92A0-B500537B8D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677A31-18CF-44FD-8333-91AB7478AD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A6F97E8-5428-42BB-B22E-4D44B8D338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C9B551-FD41-45EA-8EDB-D7542299DC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BACD97-BCAB-4E66-81D0-84C465135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1316DF-E970-42B8-9611-3ABE10DFDE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46DDF6-3D9B-4E0D-A5FF-4EE868DE4E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7D151A-2469-484F-A28B-4D8E56772D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78AD22-543F-42FF-BA65-F70EEC1BEC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F80D23-09B8-402E-9F86-39EAB38C12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CEAC83-A321-4895-B9B0-DE79FA025D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DE96BD-02CC-4C3A-8A43-9BFE30DFCC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CE3598-620F-4533-AEED-E0E58CC507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5475672-E115-4B97-BEC0-82D0F8CF3D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BCFD81-1C3E-4518-B19B-0C2BFA9B40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A86348-4AE4-48D0-A181-6B3287CC3A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846922-A512-4EF3-A46C-2191ED225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B10C59-2541-4F61-96D4-6B832A7859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CCEF74-32D4-4590-B56F-97114F69C2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FA3DB3-E08B-4EA6-81E0-6CA2934C57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5D6AF6-59C5-45BC-A219-CDA21784EC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3F7231-E10C-487E-B06C-B8B69D7491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9B1EEA-C6F3-4C61-9BB1-CCB4260C0C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503DBFA-2C34-4CC0-85EF-057746A062C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C6E03B3-78D0-4B33-B69F-1094F41DD2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B14BB2-5FA9-4BDD-BB01-B4348477AD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CBDA42-B2F3-4641-837A-03A5B8D0C5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D85652-82CE-475F-A7D1-BCDC7B1314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C3C307-0A0D-4641-9D21-83F3A03198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ABD174-C74C-4BB1-82AB-2868AFD203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C446FF-6BD6-4A58-99CB-341A2DF939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87BFD4-6022-4292-87E4-170954FD01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1F2D3A-74F7-46F7-8828-642C30112B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9638E2-BF99-4B3D-8C50-33AA09CE3B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405325-EBF9-429C-BD0E-1F6E324B60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04B7DC0-F187-490E-AC28-FC1467943F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A6E7D1F-5428-46C0-9C7B-20595A264FC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D9627B-CC75-4C54-AB3D-D3013C38ABD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3DA15A-9CEA-4A9A-B755-9068EB686C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383E3A-D713-489B-8FFF-FEA51594D9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9F23F9-44AC-4008-A987-D3CA079DEC5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D802F6-8307-464E-A974-5858C34F01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9FEAE7-5C06-48CE-A940-05E664E826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A13E7B-A17C-4102-9585-31874552DE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B328B8-929D-47F0-B915-10803ECCB7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4FBC34-4B78-4912-BEBD-6DA95E3C83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E171E23-A57D-43B5-9BE9-9EDA1EE520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A4BCE1-CC2E-489A-B71D-147F2CF2D4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E8D3A06-D5D1-48C8-8403-0559DE547A6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447722-D74A-4BA2-964B-3FD4A0E992B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5A1144-044B-4BF5-B0EA-3BC0432071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5FC225-8C0F-401D-BA3D-D1F159130A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666F06-4865-4A6A-989F-89F8C75642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7DCEF9-2433-4EBC-AF62-5488D0843F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4D5EC7-CFD8-4136-80E2-1906807A55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3BEAA0-941B-4F61-AE70-575CC4CA11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255CB5-708C-4646-8B9F-67935C20ED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D3BF-4884-40DE-89FE-2E588E3B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4E62B08-FACA-4A13-9A60-A75983FC27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4AA25A-E8FC-41A9-A551-FA9352FD16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0D30D8-DA50-498E-8E55-80EC1E769B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5144DE2-30FA-42FA-BE9A-3284EE727B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8310F4-F9BC-445F-8DED-FF5BC46EABE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A6E9D59-AF6F-4927-B3A5-D34F2A4F0E4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973AEB6-5F60-4371-B1CF-4A36E20B8E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BF0A2BA-370B-4C46-8DED-C5F647478B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5176ACC6-046A-4BB2-A790-F8856355DB7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E36C586D-FC01-43A4-9176-AD134B64744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4B33A1-0E39-4C6B-93D4-89A66A49B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4B1F2-3519-41D6-9E39-C3D55076C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A0D14-228F-4227-B4FB-3FBAF8FE6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9165D-EAEF-4341-9A9E-8A10A25F9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0D1EE-F035-438D-BFF9-BAF9D309A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987B-6C00-4B25-AAF2-936D07833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09432-167D-40CF-9D3B-12B56DB05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8276F-B1AB-46E7-BBD4-18D8A5D54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D27DC-B6B6-47E1-8A62-7909C8992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4C7E1-A0C9-46CC-9203-5E5FDDCDD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F63A6-0457-4912-A401-1EA5C84E6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FF623-81B0-469F-8647-2BC6F213B6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32EF0F-D4E4-4517-A02D-4CFFC95D04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418552-2551-4B5E-A99C-A6F48080C8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18749-7E7E-4B34-859C-A00977D19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150F8-1C26-4E31-A354-70AF90846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8D9C9-FE1A-4EE4-A2D9-687589D9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B14EF-7431-44D6-9846-38FDB4B68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36F14-BC6A-4B9C-A878-2BB9115E7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5B358-D0B3-47BA-A949-21F2B01F5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4B509-3DB9-47A7-824B-4060E5121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3AD7B-744D-43CC-8513-B2DB47C61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ADEF0-13FB-469B-8289-C04E0DC9B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5F5476-1C28-4895-B03C-791247B86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50EE13-FDD1-4603-9A2E-3FEBC9256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44971-EEA8-4748-912C-6A359772FD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3B9AA0-CBB0-4283-A2E1-04A4C4BDCE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CDCC5-808A-4861-AE05-08A6A4AC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AAF44-EE43-4257-BC64-2476A4C76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F6EAD-D028-4FDC-96C7-8FE9438CA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AE560-92E3-4EEA-9434-E7C4EF69C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B7A546-02AA-4524-B754-C8638B4C4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028CC-CF5A-44DA-A571-6EBC03755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A5496-CFED-4583-B56A-F561814FE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E2EE1-5D07-4115-83BB-FFC7DC4A7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DCE5C-E584-4448-8832-D9D391659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C343C-6922-4F26-A4AD-61D3F1425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B44F0F-9D56-4D0C-9E36-02971B6308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52C1-4CA2-4E5E-8EE5-2E22B012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D0942-005D-4F70-81BA-E987484E1D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2822AA-012E-422C-8657-6895D4C22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C69C2F-E5F8-4D14-B82C-BFD88E06D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62A8D-52A5-42DE-A6C9-6370EA060B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2B377-A0DF-4B2D-B898-3998761D8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EB330-95B8-4599-A751-9BE74F1DFF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EA601-61FA-42B1-9A84-472F44451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83FBF-55F1-4104-A07B-33E58A98B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C4971-544C-4900-9EEF-899822171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2A477-65B4-4556-A7FF-7DB02D2E7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0112-5327-436C-B96B-8B658C4A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316E8-0089-4B68-9D40-391373D17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73B32C-CA5A-4D28-A08B-9CAEEC8CAA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54198-0B2B-44E6-9C8B-87451332F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ACC76-01E1-41CF-9A6F-A9EE541D00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4E348-AC05-43EA-A75F-6E33A2F06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36261-491D-419B-A4C8-7072E5E7C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49E02-0C65-443A-A9A5-EE61BA0C0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104C7-0C5F-4FEF-A79E-0A26213C5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58070-9C61-4269-855E-20ED9488D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023DB-F076-4B62-B6B5-9EE7DD67F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70B1-F77B-474E-BEFF-1902152A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C85A4-9EF8-4756-9085-8C9D59386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8420E-E970-4F95-9E8A-CA6900CA2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8EAAC-EE9F-4CEF-80AC-A25E684DE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AFC3CD-67A0-4568-BBED-1CB92442AE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B3DDD-7070-42E8-870E-2DEC247C1A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589A5A-4294-43BC-A6ED-053FEA7F2B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B1928-F686-4E38-BA8A-D082B2EDF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E026AA-E8DE-4801-B09D-DB551EDAFA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7DC49-7467-4BEC-B12D-30068681E9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DE089-6ACC-4698-975D-EECEBA6439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66B5-EA38-4050-82EA-187D4A0C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5A569-41F3-4004-A6C3-24AEFE1AB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29E45-BA6A-4C8F-ABDB-3CB980ED4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437E7-C43E-47C1-A5DC-7AEC93A86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C8A39-0E6E-4853-941A-E2ADE829C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01E50-E978-4F53-A3CC-ECCE0ECDB8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24351A-6F92-4B0E-8B5D-4D297D6D85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3C51DC-DFBB-4045-A3EE-4B85AB2272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CECE6E-4CE3-4F35-B165-FA7C5F6608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EC22DD-19F2-41B2-9EBB-A9E8DC1ABA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A8070-9FFB-49CB-A44B-AF40000DA3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EB6E4-D76C-4C90-BE35-44F85C9D70E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11179-116E-4C1E-98C7-3EFD82E9DE5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6B8F9-CC6A-4B69-86B4-69206CAC2F6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95CAB-A983-42BA-913F-551E2C2CC17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79C66-35AE-4D70-843B-65CD7F74397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DF02C-F93D-4894-9FF4-AEEA5FFBCAF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2D113-0DE7-46BD-9466-C675E5E93C1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360CD-9E2D-4CD7-B342-8197803FBC1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2B804-69FB-4AD5-A78B-4894EAD2111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E2678-9D8B-42F6-8EE8-9BC14BCB530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E1EBF-7F47-47F3-A05C-252CB6B4B87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1F74B-30AB-4B11-BF31-85F80DA8A04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389A2-B0D7-421B-A69A-D67085AC37B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7BACF-DC9B-4920-9AD1-DAEC4EF2DB5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659F5-5E8B-4064-88D1-6360CE7877A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3D752-ABDA-4D05-B70D-CADE789D73E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EA96A-A459-47E9-AD4C-8B78EF0D51D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dule 1 Exit Tickets</a:t>
            </a:r>
            <a:endParaRPr b="0" lang="en-US" sz="4400" spc="-1" strike="noStrike">
              <a:solidFill>
                <a:srgbClr val="ffffff"/>
              </a:solidFill>
              <a:latin typeface="Trebuchet MS"/>
            </a:endParaRPr>
          </a:p>
        </p:txBody>
      </p:sp>
      <p:sp>
        <p:nvSpPr>
          <p:cNvPr id="735"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ureka Math is licensed by Great Minds under an Attribution-NonCommercial-ShareAlike 4.0 International licens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9</a:t>
            </a:r>
            <a:endParaRPr b="0" lang="en-US" sz="3800" spc="-1" strike="noStrike">
              <a:solidFill>
                <a:srgbClr val="ffffff"/>
              </a:solidFill>
              <a:latin typeface="Trebuchet MS"/>
            </a:endParaRPr>
          </a:p>
        </p:txBody>
      </p:sp>
      <p:sp>
        <p:nvSpPr>
          <p:cNvPr id="753" name=""/>
          <p:cNvSpPr txBox="1"/>
          <p:nvPr/>
        </p:nvSpPr>
        <p:spPr>
          <a:xfrm>
            <a:off x="779040" y="1425600"/>
            <a:ext cx="7583400" cy="46116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father and his young toddler are walking along the sidewalk. For every 3 steps the father takes, the son takes 5 steps just to keep up. What is the ratio of the number of steps the father takes to the number of steps the son takes? Add labels to the columns of the table, and place the ratio into the first row of data. Add equivalent ratios to build a ratio table.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can you say about the values of the ratios in the table? </a:t>
            </a: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4" name="Picture 1" descr="Screen Shot 2016-06-21 at 11.48.31 AM.png"/>
          <p:cNvPicPr/>
          <p:nvPr/>
        </p:nvPicPr>
        <p:blipFill>
          <a:blip r:embed="rId1"/>
          <a:stretch/>
        </p:blipFill>
        <p:spPr>
          <a:xfrm>
            <a:off x="3000240" y="3205080"/>
            <a:ext cx="3124440" cy="19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0</a:t>
            </a:r>
            <a:endParaRPr b="0" lang="en-US" sz="3800" spc="-1" strike="noStrike">
              <a:solidFill>
                <a:srgbClr val="ffffff"/>
              </a:solidFill>
              <a:latin typeface="Trebuchet MS"/>
            </a:endParaRPr>
          </a:p>
        </p:txBody>
      </p:sp>
      <p:sp>
        <p:nvSpPr>
          <p:cNvPr id="75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Show more than one way you could use the structure of the table to find the unknown value. Fill in the unknown valu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7" name="Picture 1" descr="Screen Shot 2016-06-21 at 11.52.32 AM.png"/>
          <p:cNvPicPr/>
          <p:nvPr/>
        </p:nvPicPr>
        <p:blipFill>
          <a:blip r:embed="rId1"/>
          <a:stretch/>
        </p:blipFill>
        <p:spPr>
          <a:xfrm>
            <a:off x="1852560" y="3068640"/>
            <a:ext cx="5519880" cy="29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1</a:t>
            </a:r>
            <a:endParaRPr b="0" lang="en-US" sz="3800" spc="-1" strike="noStrike">
              <a:solidFill>
                <a:srgbClr val="ffffff"/>
              </a:solidFill>
              <a:latin typeface="Trebuchet MS"/>
            </a:endParaRPr>
          </a:p>
        </p:txBody>
      </p:sp>
      <p:sp>
        <p:nvSpPr>
          <p:cNvPr id="759" name=""/>
          <p:cNvSpPr txBox="1"/>
          <p:nvPr/>
        </p:nvSpPr>
        <p:spPr>
          <a:xfrm>
            <a:off x="634680" y="1425240"/>
            <a:ext cx="8078760" cy="504828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ekeepers sometimes supplement the diet of honeybees with sugar water to help promote colony growth in the spring and help the bees survive through fall and winter months. The tables below show the amount of water and the amount of sugar used in the spring and in the fall.</a:t>
            </a: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rite a sentence that compares the ratios of the number of cups of sugar to the number of cups of water in each table.  Explain how you determined your answer.</a:t>
            </a:r>
            <a:endParaRPr b="0" lang="en-US" sz="17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pic>
        <p:nvPicPr>
          <p:cNvPr id="760" name="Picture 1" descr="Screen Shot 2016-06-21 at 11.54.40 AM.png"/>
          <p:cNvPicPr/>
          <p:nvPr/>
        </p:nvPicPr>
        <p:blipFill>
          <a:blip r:embed="rId1"/>
          <a:stretch/>
        </p:blipFill>
        <p:spPr>
          <a:xfrm>
            <a:off x="1414440" y="2901960"/>
            <a:ext cx="3048120" cy="2487600"/>
          </a:xfrm>
          <a:prstGeom prst="rect">
            <a:avLst/>
          </a:prstGeom>
          <a:ln w="0">
            <a:noFill/>
          </a:ln>
        </p:spPr>
      </p:pic>
      <p:pic>
        <p:nvPicPr>
          <p:cNvPr id="761" name="Picture 2" descr="Screen Shot 2016-06-21 at 11.55.01 AM.png"/>
          <p:cNvPicPr/>
          <p:nvPr/>
        </p:nvPicPr>
        <p:blipFill>
          <a:blip r:embed="rId2"/>
          <a:stretch/>
        </p:blipFill>
        <p:spPr>
          <a:xfrm>
            <a:off x="5030640" y="2901960"/>
            <a:ext cx="3138480" cy="25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2</a:t>
            </a:r>
            <a:endParaRPr b="0" lang="en-US" sz="3800" spc="-1" strike="noStrike">
              <a:solidFill>
                <a:srgbClr val="ffffff"/>
              </a:solidFill>
              <a:latin typeface="Trebuchet MS"/>
            </a:endParaRPr>
          </a:p>
        </p:txBody>
      </p:sp>
      <p:sp>
        <p:nvSpPr>
          <p:cNvPr id="76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Kyra is participating in a fundraiser walk-a-thon. She walks 2 miles in 30 minutes. If she continues to walk at the same rate, determine how many minutes it will take her to walk 7 miles. Use a double number line diagram to support your answer.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3</a:t>
            </a:r>
            <a:endParaRPr b="0" lang="en-US" sz="3800" spc="-1" strike="noStrike">
              <a:solidFill>
                <a:srgbClr val="ffffff"/>
              </a:solidFill>
              <a:latin typeface="Trebuchet MS"/>
            </a:endParaRPr>
          </a:p>
        </p:txBody>
      </p:sp>
      <p:sp>
        <p:nvSpPr>
          <p:cNvPr id="765" name=""/>
          <p:cNvSpPr txBox="1"/>
          <p:nvPr/>
        </p:nvSpPr>
        <p:spPr>
          <a:xfrm>
            <a:off x="779040" y="1425600"/>
            <a:ext cx="7583400" cy="4611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arpenter uses four nails to install each shelf. Complete the table to represent the relationship between the number of nails (𝑁) and the number of shelves (𝑆). Write the ratio that describes the number of nails per number of shelves. Write as many different equations as you can that describe the relationship between the two quantiti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66" name="Picture 2" descr="Screen Shot 2016-06-21 at 12.03.17 PM.png"/>
          <p:cNvPicPr/>
          <p:nvPr/>
        </p:nvPicPr>
        <p:blipFill>
          <a:blip r:embed="rId1"/>
          <a:stretch/>
        </p:blipFill>
        <p:spPr>
          <a:xfrm>
            <a:off x="2138400" y="3925800"/>
            <a:ext cx="5118120" cy="245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423720" y="1425240"/>
            <a:ext cx="8431200" cy="5024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minic works on the weekends and on vacations from school mowing lawns in his neighborhood. For every lawn he mows, he charges $12. Complete the table. Then determine ordered pairs, and create a labeled graph.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How many lawns will Dominic need to mow in order to make $240?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uch money will Dominic make if he mows 9 lawns? </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4</a:t>
            </a:r>
            <a:endParaRPr b="0" lang="en-US" sz="3800" spc="-1" strike="noStrike">
              <a:solidFill>
                <a:srgbClr val="ffffff"/>
              </a:solidFill>
              <a:latin typeface="Trebuchet MS"/>
            </a:endParaRPr>
          </a:p>
        </p:txBody>
      </p:sp>
      <p:pic>
        <p:nvPicPr>
          <p:cNvPr id="769" name="Picture 2" descr="Screen Shot 2016-06-21 at 12.11.28 PM.png"/>
          <p:cNvPicPr/>
          <p:nvPr/>
        </p:nvPicPr>
        <p:blipFill>
          <a:blip r:embed="rId1"/>
          <a:stretch/>
        </p:blipFill>
        <p:spPr>
          <a:xfrm>
            <a:off x="1446120" y="2435400"/>
            <a:ext cx="2681280" cy="2761920"/>
          </a:xfrm>
          <a:prstGeom prst="rect">
            <a:avLst/>
          </a:prstGeom>
          <a:ln w="0">
            <a:noFill/>
          </a:ln>
        </p:spPr>
      </p:pic>
      <p:pic>
        <p:nvPicPr>
          <p:cNvPr id="770" name="Picture 3" descr="Screen Shot 2016-06-21 at 12.12.12 PM.png"/>
          <p:cNvPicPr/>
          <p:nvPr/>
        </p:nvPicPr>
        <p:blipFill>
          <a:blip r:embed="rId2"/>
          <a:stretch/>
        </p:blipFill>
        <p:spPr>
          <a:xfrm>
            <a:off x="5132520" y="2457360"/>
            <a:ext cx="227628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79040" y="53964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5</a:t>
            </a:r>
            <a:endParaRPr b="0" lang="en-US" sz="3800" spc="-1" strike="noStrike">
              <a:solidFill>
                <a:srgbClr val="ffffff"/>
              </a:solidFill>
              <a:latin typeface="Trebuchet MS"/>
            </a:endParaRPr>
          </a:p>
        </p:txBody>
      </p:sp>
      <p:sp>
        <p:nvSpPr>
          <p:cNvPr id="772" name=""/>
          <p:cNvSpPr txBox="1"/>
          <p:nvPr/>
        </p:nvSpPr>
        <p:spPr>
          <a:xfrm>
            <a:off x="779400" y="1584360"/>
            <a:ext cx="7864560" cy="47131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Jen and Nikki are making bracelets to sell at the local market. They determined that each bracelet would have eight beads and two charms.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omplete the table below to show the ratio of the number of charms to the number of bead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endParaRPr b="0" lang="en-US" sz="2000" spc="-1" strike="noStrike">
              <a:solidFill>
                <a:srgbClr val="ffffff"/>
              </a:solidFill>
              <a:latin typeface="Trebuchet MS"/>
            </a:endParaRPr>
          </a:p>
          <a:p>
            <a:pPr marL="282600" indent="-282600">
              <a:lnSpc>
                <a:spcPct val="5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reate ordered pairs from the table, and plot</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pairs on the graph below. Label the axes of </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graph and provide a title.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73" name="Picture 1" descr="Screen Shot 2016-06-21 at 12.50.00 PM.png"/>
          <p:cNvPicPr/>
          <p:nvPr/>
        </p:nvPicPr>
        <p:blipFill>
          <a:blip r:embed="rId1"/>
          <a:stretch/>
        </p:blipFill>
        <p:spPr>
          <a:xfrm>
            <a:off x="1200240" y="3589200"/>
            <a:ext cx="4655880" cy="676440"/>
          </a:xfrm>
          <a:prstGeom prst="rect">
            <a:avLst/>
          </a:prstGeom>
          <a:ln w="0">
            <a:noFill/>
          </a:ln>
        </p:spPr>
      </p:pic>
      <p:pic>
        <p:nvPicPr>
          <p:cNvPr id="774" name="Picture 2" descr="Screen Shot 2016-06-21 at 12.50.30 PM.png"/>
          <p:cNvPicPr/>
          <p:nvPr/>
        </p:nvPicPr>
        <p:blipFill>
          <a:blip r:embed="rId2"/>
          <a:stretch/>
        </p:blipFill>
        <p:spPr>
          <a:xfrm>
            <a:off x="6616800" y="3792600"/>
            <a:ext cx="22986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6</a:t>
            </a:r>
            <a:endParaRPr b="0" lang="en-US" sz="3800" spc="-1" strike="noStrike">
              <a:solidFill>
                <a:srgbClr val="ffffff"/>
              </a:solidFill>
              <a:latin typeface="Trebuchet MS"/>
            </a:endParaRPr>
          </a:p>
        </p:txBody>
      </p:sp>
      <p:sp>
        <p:nvSpPr>
          <p:cNvPr id="77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gela enjoys swimming and often swims at a steady pace to burn calories. At this pace, Angela can swim 1,700 meters in 40 minute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What is Angela’s unit rat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What is the rate uni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7</a:t>
            </a:r>
            <a:endParaRPr b="0" lang="en-US" sz="3800" spc="-1" strike="noStrike">
              <a:solidFill>
                <a:srgbClr val="ffffff"/>
              </a:solidFill>
              <a:latin typeface="Trebuchet MS"/>
            </a:endParaRPr>
          </a:p>
        </p:txBody>
      </p:sp>
      <p:sp>
        <p:nvSpPr>
          <p:cNvPr id="77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iffany is filling her daughter’s pool with water from a hose. She can fill the pool at a rate of             </a:t>
            </a:r>
            <a:r>
              <a:rPr b="0" lang="en-US" sz="2600" spc="-1" strike="noStrike">
                <a:solidFill>
                  <a:srgbClr val="ffffff"/>
                </a:solidFill>
                <a:latin typeface="Trebuchet MS"/>
              </a:rPr>
              <a:t>	</a:t>
            </a:r>
            <a:r>
              <a:rPr b="0" lang="en-US" sz="2600" spc="-1" strike="noStrike">
                <a:solidFill>
                  <a:srgbClr val="ffffff"/>
                </a:solidFill>
                <a:latin typeface="Trebuchet MS"/>
              </a:rPr>
              <a:t>gallons/second.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at least three equivalent ratios that are associated with the rate. Use a double number line to show your work.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779" name="Picture 3" descr="Screen Shot 2016-06-21 at 1.03.20 PM.png"/>
          <p:cNvPicPr/>
          <p:nvPr/>
        </p:nvPicPr>
        <p:blipFill>
          <a:blip r:embed="rId1"/>
          <a:stretch/>
        </p:blipFill>
        <p:spPr>
          <a:xfrm>
            <a:off x="1305000" y="2700360"/>
            <a:ext cx="330120" cy="59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8</a:t>
            </a:r>
            <a:endParaRPr b="0" lang="en-US" sz="3800" spc="-1" strike="noStrike">
              <a:solidFill>
                <a:srgbClr val="ffffff"/>
              </a:solidFill>
              <a:latin typeface="Trebuchet MS"/>
            </a:endParaRPr>
          </a:p>
        </p:txBody>
      </p:sp>
      <p:sp>
        <p:nvSpPr>
          <p:cNvPr id="78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jandra drove from Michigan to Colorado to visit her friend. The speed limit on the highway is 70 miles/hour. If Alejandra’s combined driving time for the trip was 14 hours, how many miles did Alejandra drive?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a ratio for the following description: Kaleel made three times as many baskets as John during basketball practic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Describe a situation that could be modeled with the ratio 4: 1.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 Write a ratio for the following description: For every 6 cups of flour in a bread recipe, there are 2 cups of milk.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9</a:t>
            </a:r>
            <a:endParaRPr b="0" lang="en-US" sz="3800" spc="-1" strike="noStrike">
              <a:solidFill>
                <a:srgbClr val="ffffff"/>
              </a:solidFill>
              <a:latin typeface="Trebuchet MS"/>
            </a:endParaRPr>
          </a:p>
        </p:txBody>
      </p:sp>
      <p:sp>
        <p:nvSpPr>
          <p:cNvPr id="783" name=""/>
          <p:cNvSpPr txBox="1"/>
          <p:nvPr/>
        </p:nvSpPr>
        <p:spPr>
          <a:xfrm>
            <a:off x="352080" y="1425240"/>
            <a:ext cx="8326440" cy="485460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Giovanni, and Ebony are triplets and always argue over who can answer basic math facts the fastest. After completing a few different math fact activities, Kiara, Giovanni, and Ebony record their data, which is shown bel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 </a:t>
            </a:r>
            <a:r>
              <a:rPr b="0" i="1" lang="en-US" sz="1800" spc="-1" strike="noStrike">
                <a:solidFill>
                  <a:srgbClr val="ffffff"/>
                </a:solidFill>
                <a:latin typeface="Trebuchet MS"/>
                <a:ea typeface="ＭＳ Ｐゴシック"/>
              </a:rPr>
              <a:t>5t</a:t>
            </a:r>
            <a:r>
              <a:rPr b="0" lang="en-US" sz="1800" spc="-1" strike="noStrike">
                <a:solidFill>
                  <a:srgbClr val="ffffff"/>
                </a:solidFill>
                <a:latin typeface="Trebuchet MS"/>
                <a:ea typeface="ＭＳ Ｐゴシック"/>
              </a:rPr>
              <a:t>, where </a:t>
            </a:r>
            <a:r>
              <a:rPr b="0" i="1" lang="en-US" sz="1800" spc="-1" strike="noStrike">
                <a:solidFill>
                  <a:srgbClr val="ffffff"/>
                </a:solidFill>
                <a:latin typeface="Trebuchet MS"/>
                <a:ea typeface="ＭＳ Ｐゴシック"/>
              </a:rPr>
              <a:t>t </a:t>
            </a:r>
            <a:r>
              <a:rPr b="0" lang="en-US" sz="1800" spc="-1" strike="noStrike">
                <a:solidFill>
                  <a:srgbClr val="ffffff"/>
                </a:solidFill>
                <a:latin typeface="Trebuchet MS"/>
                <a:ea typeface="ＭＳ Ｐゴシック"/>
              </a:rPr>
              <a:t>represents the time in seconds, and </a:t>
            </a:r>
            <a:r>
              <a:rPr b="0" i="1" lang="en-US" sz="1800" spc="-1" strike="noStrike">
                <a:solidFill>
                  <a:srgbClr val="ffffff"/>
                </a:solidFill>
                <a:latin typeface="Trebuchet MS"/>
                <a:ea typeface="ＭＳ Ｐゴシック"/>
              </a:rPr>
              <a:t>m </a:t>
            </a:r>
            <a:r>
              <a:rPr b="0" lang="en-US" sz="1800" spc="-1" strike="noStrike">
                <a:solidFill>
                  <a:srgbClr val="ffffff"/>
                </a:solidFill>
                <a:latin typeface="Trebuchet MS"/>
                <a:ea typeface="ＭＳ Ｐゴシック"/>
              </a:rPr>
              <a:t>represents the number of math facts completed.</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at is the math fact completion rate for each student?</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o would win the argument? How do you kn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84" name="Picture 3" descr="Screen Shot 2016-06-21 at 1.32.34 PM.png"/>
          <p:cNvPicPr/>
          <p:nvPr/>
        </p:nvPicPr>
        <p:blipFill>
          <a:blip r:embed="rId1"/>
          <a:stretch/>
        </p:blipFill>
        <p:spPr>
          <a:xfrm>
            <a:off x="5551560" y="3348000"/>
            <a:ext cx="2811240" cy="2151000"/>
          </a:xfrm>
          <a:prstGeom prst="rect">
            <a:avLst/>
          </a:prstGeom>
          <a:ln w="0">
            <a:noFill/>
          </a:ln>
        </p:spPr>
      </p:pic>
      <p:pic>
        <p:nvPicPr>
          <p:cNvPr id="785" name="Picture 4" descr="Screen Shot 2016-06-21 at 1.32.09 PM.png"/>
          <p:cNvPicPr/>
          <p:nvPr/>
        </p:nvPicPr>
        <p:blipFill>
          <a:blip r:embed="rId2"/>
          <a:stretch/>
        </p:blipFill>
        <p:spPr>
          <a:xfrm>
            <a:off x="779400" y="3894120"/>
            <a:ext cx="4110120" cy="98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0</a:t>
            </a:r>
            <a:endParaRPr b="0" lang="en-US" sz="3800" spc="-1" strike="noStrike">
              <a:solidFill>
                <a:srgbClr val="ffffff"/>
              </a:solidFill>
              <a:latin typeface="Trebuchet MS"/>
            </a:endParaRPr>
          </a:p>
        </p:txBody>
      </p:sp>
      <p:sp>
        <p:nvSpPr>
          <p:cNvPr id="787" name=""/>
          <p:cNvSpPr txBox="1"/>
          <p:nvPr/>
        </p:nvSpPr>
        <p:spPr>
          <a:xfrm>
            <a:off x="779040" y="1425240"/>
            <a:ext cx="7583400" cy="5048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nd Market City are both having a sale on the same popular crackers. McKayla is trying to determine which sale is the better deal. Using the given table and equation, determine which store has the better deal on crackers? Explain your reasoning. (Remember to round your answers to the nearest penny.)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ket City: </a:t>
            </a:r>
            <a:r>
              <a:rPr b="0" lang="en-US" sz="2200" spc="-1" strike="noStrike">
                <a:solidFill>
                  <a:srgbClr val="ffffff"/>
                </a:solidFill>
                <a:latin typeface="Trebuchet MS"/>
              </a:rPr>
              <a:t>c = 1.75b, where </a:t>
            </a:r>
            <a:r>
              <a:rPr b="0" i="1" lang="en-US" sz="2200" spc="-1" strike="noStrike">
                <a:solidFill>
                  <a:srgbClr val="ffffff"/>
                </a:solidFill>
                <a:latin typeface="Trebuchet MS"/>
              </a:rPr>
              <a:t>c</a:t>
            </a:r>
            <a:r>
              <a:rPr b="0" lang="en-US" sz="2200" spc="-1" strike="noStrike">
                <a:solidFill>
                  <a:srgbClr val="ffffff"/>
                </a:solidFill>
                <a:latin typeface="Trebuchet MS"/>
              </a:rPr>
              <a:t> represents the cost in dollars, and </a:t>
            </a:r>
            <a:r>
              <a:rPr b="0" i="1" lang="en-US" sz="2200" spc="-1" strike="noStrike">
                <a:solidFill>
                  <a:srgbClr val="ffffff"/>
                </a:solidFill>
                <a:latin typeface="Trebuchet MS"/>
              </a:rPr>
              <a:t>b</a:t>
            </a:r>
            <a:r>
              <a:rPr b="0" lang="en-US" sz="2200" spc="-1" strike="noStrike">
                <a:solidFill>
                  <a:srgbClr val="ffffff"/>
                </a:solidFill>
                <a:latin typeface="Trebuchet MS"/>
              </a:rPr>
              <a:t> represents the number of boxes of cracker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88" name="Picture 3" descr="Screen Shot 2016-06-21 at 1.37.06 PM.png"/>
          <p:cNvPicPr/>
          <p:nvPr/>
        </p:nvPicPr>
        <p:blipFill>
          <a:blip r:embed="rId1"/>
          <a:stretch/>
        </p:blipFill>
        <p:spPr>
          <a:xfrm>
            <a:off x="666720" y="3927600"/>
            <a:ext cx="7696080" cy="120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1</a:t>
            </a:r>
            <a:endParaRPr b="0" lang="en-US" sz="3800" spc="-1" strike="noStrike">
              <a:solidFill>
                <a:srgbClr val="ffffff"/>
              </a:solidFill>
              <a:latin typeface="Trebuchet MS"/>
            </a:endParaRPr>
          </a:p>
        </p:txBody>
      </p:sp>
      <p:sp>
        <p:nvSpPr>
          <p:cNvPr id="79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Jill and Erika made 4 gallons of lemonade for their lemonade stand. How many quarts did they make? If they charge $2.00 per quart, how much money will they make if they sell it all?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2</a:t>
            </a:r>
            <a:endParaRPr b="0" lang="en-US" sz="3800" spc="-1" strike="noStrike">
              <a:solidFill>
                <a:srgbClr val="ffffff"/>
              </a:solidFill>
              <a:latin typeface="Trebuchet MS"/>
            </a:endParaRPr>
          </a:p>
        </p:txBody>
      </p:sp>
      <p:sp>
        <p:nvSpPr>
          <p:cNvPr id="79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nny took a road trip to her grandmother’s house. She drove at a constant speed of 60 miles per hour for 2 hours. She took a break and then finished the rest of her trip driving at a constant speed of 50 miles per hour for 2 hours. What was the total distance of Franny’s trip?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3</a:t>
            </a:r>
            <a:endParaRPr b="0" lang="en-US" sz="3800" spc="-1" strike="noStrike">
              <a:solidFill>
                <a:srgbClr val="ffffff"/>
              </a:solidFill>
              <a:latin typeface="Trebuchet MS"/>
            </a:endParaRPr>
          </a:p>
        </p:txBody>
      </p:sp>
      <p:sp>
        <p:nvSpPr>
          <p:cNvPr id="79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sixth-grade math teacher can grade 25 homework assignments in 20 minutes. Is he working at a faster rate or slower rate than grading 36 homework assignments in 30 minutes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4</a:t>
            </a:r>
            <a:endParaRPr b="0" lang="en-US" sz="3800" spc="-1" strike="noStrike">
              <a:solidFill>
                <a:srgbClr val="ffffff"/>
              </a:solidFill>
              <a:latin typeface="Trebuchet MS"/>
            </a:endParaRPr>
          </a:p>
        </p:txBody>
      </p:sp>
      <p:sp>
        <p:nvSpPr>
          <p:cNvPr id="79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hundred offices need to be painted. The workers choose between yellow, blue, or beige paint. They decide that 45% of the offices will be painted yellow; 28% will be painted blue, and the remaining offices will be painted beige.  Write the amounts as decimals and fraction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97" name="Picture 3" descr="Screen Shot 2016-06-21 at 1.44.02 PM.png"/>
          <p:cNvPicPr/>
          <p:nvPr/>
        </p:nvPicPr>
        <p:blipFill>
          <a:blip r:embed="rId1"/>
          <a:stretch/>
        </p:blipFill>
        <p:spPr>
          <a:xfrm>
            <a:off x="2587680" y="4013280"/>
            <a:ext cx="446868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5</a:t>
            </a:r>
            <a:endParaRPr b="0" lang="en-US" sz="3800" spc="-1" strike="noStrike">
              <a:solidFill>
                <a:srgbClr val="ffffff"/>
              </a:solidFill>
              <a:latin typeface="Trebuchet MS"/>
            </a:endParaRPr>
          </a:p>
        </p:txBody>
      </p:sp>
      <p:sp>
        <p:nvSpPr>
          <p:cNvPr id="799" name=""/>
          <p:cNvSpPr txBox="1"/>
          <p:nvPr/>
        </p:nvSpPr>
        <p:spPr>
          <a:xfrm>
            <a:off x="779040" y="1828800"/>
            <a:ext cx="7583400" cy="4208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all the necessary work to support your answer.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0.3 to a fraction and a percent.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9% to a fraction and a decimal.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to a decimal and a percent. </a:t>
            </a:r>
            <a:endParaRPr b="0" lang="en-US" sz="2200" spc="-1" strike="noStrike">
              <a:solidFill>
                <a:srgbClr val="ffffff"/>
              </a:solidFill>
              <a:latin typeface="Trebuchet MS"/>
            </a:endParaRPr>
          </a:p>
        </p:txBody>
      </p:sp>
      <p:pic>
        <p:nvPicPr>
          <p:cNvPr id="800" name="Picture 3" descr="Screen Shot 2016-06-21 at 1.43.35 PM.png"/>
          <p:cNvPicPr/>
          <p:nvPr/>
        </p:nvPicPr>
        <p:blipFill>
          <a:blip r:embed="rId1"/>
          <a:stretch/>
        </p:blipFill>
        <p:spPr>
          <a:xfrm>
            <a:off x="2117880" y="3568680"/>
            <a:ext cx="241200" cy="58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6</a:t>
            </a:r>
            <a:endParaRPr b="0" lang="en-US" sz="3800" spc="-1" strike="noStrike">
              <a:solidFill>
                <a:srgbClr val="ffffff"/>
              </a:solidFill>
              <a:latin typeface="Trebuchet MS"/>
            </a:endParaRPr>
          </a:p>
        </p:txBody>
      </p:sp>
      <p:sp>
        <p:nvSpPr>
          <p:cNvPr id="80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nd 40% of 60 using two different strategies, one of which must include a pictorial model or diagra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 an amount is 30. Calculate the whole amount using two different strategies, one of which must include a pictorial mode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7</a:t>
            </a:r>
            <a:endParaRPr b="0" lang="en-US" sz="3800" spc="-1" strike="noStrike">
              <a:solidFill>
                <a:srgbClr val="ffffff"/>
              </a:solidFill>
              <a:latin typeface="Trebuchet MS"/>
            </a:endParaRPr>
          </a:p>
        </p:txBody>
      </p:sp>
      <p:sp>
        <p:nvSpPr>
          <p:cNvPr id="80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ane paid $40 for an item after she received a 20% discount. Jane’s friend says this means that the original price of the item was $48.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ow do you think Jane’s friend arrived at this amoun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Is her friend correct? Why or why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8</a:t>
            </a:r>
            <a:endParaRPr b="0" lang="en-US" sz="3800" spc="-1" strike="noStrike">
              <a:solidFill>
                <a:srgbClr val="ffffff"/>
              </a:solidFill>
              <a:latin typeface="Trebuchet MS"/>
            </a:endParaRPr>
          </a:p>
        </p:txBody>
      </p:sp>
      <p:sp>
        <p:nvSpPr>
          <p:cNvPr id="80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one problem using a dollar amount of $420 and a percent of 40%. Provide the solution to your probl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The sale price of an item is $160 after a 20% discount. What was the original price of the it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a:t>
            </a:r>
            <a:endParaRPr b="0" lang="en-US" sz="3800" spc="-1" strike="noStrike">
              <a:solidFill>
                <a:srgbClr val="ffffff"/>
              </a:solidFill>
              <a:latin typeface="Trebuchet MS"/>
            </a:endParaRPr>
          </a:p>
        </p:txBody>
      </p:sp>
      <p:sp>
        <p:nvSpPr>
          <p:cNvPr id="73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ive two different ratios with a description of the ratio relationship using the following informatio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15 male teachers in the school. There are 35 female teachers in the schoo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3</a:t>
            </a:r>
            <a:endParaRPr b="0" lang="en-US" sz="3800" spc="-1" strike="noStrike">
              <a:solidFill>
                <a:srgbClr val="ffffff"/>
              </a:solidFill>
              <a:latin typeface="Trebuchet MS"/>
            </a:endParaRPr>
          </a:p>
        </p:txBody>
      </p:sp>
      <p:sp>
        <p:nvSpPr>
          <p:cNvPr id="741" name=""/>
          <p:cNvSpPr txBox="1"/>
          <p:nvPr/>
        </p:nvSpPr>
        <p:spPr>
          <a:xfrm>
            <a:off x="779040" y="1425240"/>
            <a:ext cx="7583400" cy="50245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am and her brother both open savings accounts. Each begins with a balance of zero dollars. For every two dollars that Pam saves in her account, her brother saves five dollars in hi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etermine a ratio to describe the money in Pam’s account to the money in her brother’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f Pam has 40 dollars in her account, how much money does her brother have in his account? Use a tape diagram to support your answer.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cord the equivalent ratio.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reate another possible ratio that describes the relationship between the amount of money in Pam’s account and the amount of money in her brother’s account. </a:t>
            </a:r>
            <a:endParaRPr b="0" lang="en-US" sz="1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4</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35 boys in the sixth grade. The number of girls in the sixth grade is 42. Lonnie says that means the ratio of the number of boys in the sixth grade to the number of girls in the sixth grade is 5: 7. Is Lonnie correct? Show why or why not.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5</a:t>
            </a:r>
            <a:endParaRPr b="0" lang="en-US" sz="3800" spc="-1" strike="noStrike">
              <a:solidFill>
                <a:srgbClr val="ffffff"/>
              </a:solidFill>
              <a:latin typeface="Trebuchet MS"/>
            </a:endParaRPr>
          </a:p>
        </p:txBody>
      </p:sp>
      <p:sp>
        <p:nvSpPr>
          <p:cNvPr id="745"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arla looked out at the school parking lot, she noticed that for every 2 minivans, there were 5 other types of vehicles. If there are 161 vehicles in the parking lot, how many of them are not minivan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6</a:t>
            </a:r>
            <a:endParaRPr b="0" lang="en-US" sz="3800" spc="-1" strike="noStrike">
              <a:solidFill>
                <a:srgbClr val="ffffff"/>
              </a:solidFill>
              <a:latin typeface="Trebuchet MS"/>
            </a:endParaRPr>
          </a:p>
        </p:txBody>
      </p:sp>
      <p:sp>
        <p:nvSpPr>
          <p:cNvPr id="74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ents surveyed boys and girls separately to determine which sport was enjoyed the most. After completing the boy survey, it was determined that for every 3 boys who enjoyed soccer, 5 boys enjoyed basketball. The girl survey had a ratio of the number of girls who enjoyed soccer to the number of girls who enjoyed basketball of 7: 1.</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 same number of boys and girls were surveyed, and 90 boys enjoy soccer, how many girls enjoy each spor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7</a:t>
            </a:r>
            <a:endParaRPr b="0" lang="en-US" sz="3800" spc="-1" strike="noStrike">
              <a:solidFill>
                <a:srgbClr val="ffffff"/>
              </a:solidFill>
              <a:latin typeface="Trebuchet MS"/>
            </a:endParaRPr>
          </a:p>
        </p:txBody>
      </p:sp>
      <p:sp>
        <p:nvSpPr>
          <p:cNvPr id="749" name=""/>
          <p:cNvSpPr txBox="1"/>
          <p:nvPr/>
        </p:nvSpPr>
        <p:spPr>
          <a:xfrm>
            <a:off x="568440" y="1620720"/>
            <a:ext cx="8337600" cy="488016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Alyssa’s extended family is staying at the lake house this weekend for a family reunion. She is in charge of making homemade pancakes for the entire group. The pancake mix requires 2 cups of flour for every 10 pancake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Write a ratio to show the relationship between the number of cups of flour and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Determine the value of the ratio.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Use the value of the ratio to fill in the following two multiplicative comparison statement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number of pancakes made is ________ times the amount of cups of flour needed.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amount of cups of flour needed is ________ of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If Alyssa has to make 70 pancakes, how many cups of flour will she have to us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8</a:t>
            </a:r>
            <a:endParaRPr b="0" lang="en-US" sz="3800" spc="-1" strike="noStrike">
              <a:solidFill>
                <a:srgbClr val="ffffff"/>
              </a:solidFill>
              <a:latin typeface="Trebuchet MS"/>
            </a:endParaRPr>
          </a:p>
        </p:txBody>
      </p:sp>
      <p:sp>
        <p:nvSpPr>
          <p:cNvPr id="75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You created a new playlist, and 100 of your friends listened to it and shared if they liked the new playlist or not. Nadhii said the ratio of the number of people who liked the playlist to the number of people who did not like the playlist is 75: 25. Dylan said that for every three people who liked the playlist, one person did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adhii and Dylan agree? Prove your answer using the values of the ratio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17:41:17Z</dcterms:created>
  <dc:creator>user</dc:creator>
  <dc:description/>
  <dc:language>en-US</dc:language>
  <cp:lastModifiedBy>bethel</cp:lastModifiedBy>
  <cp:lastPrinted>2016-06-21T20:44:38Z</cp:lastPrinted>
  <dcterms:modified xsi:type="dcterms:W3CDTF">2016-06-29T15:55:35Z</dcterms:modified>
  <cp:revision>39</cp:revision>
  <dc:subject/>
  <dc:title>Module 1 Exit Tickets</dc:title>
</cp:coreProperties>
</file>